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1273-CAD5-4DB0-A42D-1680353A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39B5-94B2-4900-80F0-8FD13C1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DB5-1072-40C6-B9DC-61F8472F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935-9926-4369-B32A-9162EEAA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221A8-1526-4DFA-A60B-EF4823E7C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D98DC-21C7-4BC2-BC79-0A0C8E40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F1228-697A-4E2B-8335-7A9FBA15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F490E-4DAC-4546-B0C8-0FDC3D77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4DD81-11EC-41EF-9C85-B7C4ECC9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B677F-5952-4FE0-95AC-181CC894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FD899-4395-4C6C-8384-0E574665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267-57D8-4CEF-908F-1E4CFCC4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812CB-5F63-4499-827B-C8C42959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81F43-1CC9-4409-B1B3-A157EA3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CDEE1-E07C-4B30-A0D1-519D2F5D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AE03E-BC78-4AA5-9522-82B85B70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2C1AC-9D7D-4924-8BA1-CBC704CF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7B77D-143C-4DD6-B178-0543987C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1BE3F-E99C-4062-8758-A2A63D04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8057C-C943-4B20-902F-1D80C8F6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30C0A-E5FF-44E0-82EB-66F225E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97093-AA24-47D2-BCFD-1B696DD5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CFD-75E2-4396-A3D2-8F35D4BC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7DB67-B25A-4EB2-A025-50BC8403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3D462-54B8-44E3-8EF0-C698A8A7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0F850-4146-43F0-8E42-95E535DA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98333-B9FF-4304-BE88-18916139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F0417-A91E-4943-892F-FED78E76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D43E1-79E0-47F9-9B38-D1A09A68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631DE-D4FB-4B08-A168-EC59C7FC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412C2F-BE36-49FB-B468-DAC42F4B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2DCA93-2885-4005-B9ED-B6A76CE9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72B16-BC05-4B58-8D74-C3FEBB32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DD8-1F70-4BE5-B1A9-0F3C3A4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46330F-50E5-4CB1-9410-89066653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D51776-CBD0-4DB2-8BCB-091A967A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A10C0B-6245-43E8-B522-7C8D2C66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C2B73-22F9-46D2-BA7E-D1DF1324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11F6F-67A5-4BA7-9490-5F5A4941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367BA2-A597-4117-B7DB-BCAE8857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8111E1-302B-4901-8A07-55223ECD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A501E6-216E-4ECC-848F-B3E76CFE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AA1DC-D805-4CAC-85DA-716FAFA21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799-4AFA-4004-806E-3A933D4E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AB34-29F1-44E1-8CAC-030158AC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A401-2D12-4B44-9533-3906F00F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7911-D830-43CF-AFCB-90002BA6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7543-8EA7-485D-99AE-7B38FF3A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9BCE-0787-4150-816A-93637CCCEA60}" type="slidenum">
              <a:rPr b="0" lang="en-PH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9F9A-6F44-4749-A286-729A982FE59B}" type="slidenum">
              <a:rPr b="0" lang="en-PH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1D29-4C63-4084-9E6E-3542A4B9757D}" type="slidenum">
              <a:rPr b="0" lang="en-PH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PH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C727-DD67-4C5D-8D80-FE1A59D166EF}" type="slidenum">
              <a:rPr b="0" lang="en-PH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Title 1" descr=""/>
          <p:cNvPicPr/>
          <p:nvPr/>
        </p:nvPicPr>
        <p:blipFill>
          <a:blip r:embed="rId1"/>
          <a:stretch/>
        </p:blipFill>
        <p:spPr>
          <a:xfrm>
            <a:off x="450720" y="682560"/>
            <a:ext cx="8321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Title 2" descr=""/>
          <p:cNvPicPr/>
          <p:nvPr/>
        </p:nvPicPr>
        <p:blipFill>
          <a:blip r:embed="rId1"/>
          <a:stretch/>
        </p:blipFill>
        <p:spPr>
          <a:xfrm>
            <a:off x="195120" y="1365120"/>
            <a:ext cx="3827520" cy="3657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7" descr="Be observant but cautious"/>
          <p:cNvPicPr/>
          <p:nvPr/>
        </p:nvPicPr>
        <p:blipFill>
          <a:blip r:embed="rId2"/>
          <a:stretch/>
        </p:blipFill>
        <p:spPr>
          <a:xfrm>
            <a:off x="4114800" y="762120"/>
            <a:ext cx="44197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Title 2" descr=""/>
          <p:cNvPicPr/>
          <p:nvPr/>
        </p:nvPicPr>
        <p:blipFill>
          <a:blip r:embed="rId1"/>
          <a:stretch/>
        </p:blipFill>
        <p:spPr>
          <a:xfrm>
            <a:off x="390600" y="907920"/>
            <a:ext cx="3700440" cy="48769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9" descr="Magnetism test"/>
          <p:cNvPicPr/>
          <p:nvPr/>
        </p:nvPicPr>
        <p:blipFill>
          <a:blip r:embed="rId2"/>
          <a:stretch/>
        </p:blipFill>
        <p:spPr>
          <a:xfrm>
            <a:off x="4191120" y="914400"/>
            <a:ext cx="4343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3" descr="Typical shapes that minerals like"/>
          <p:cNvPicPr/>
          <p:nvPr/>
        </p:nvPicPr>
        <p:blipFill>
          <a:blip r:embed="rId1"/>
          <a:stretch/>
        </p:blipFill>
        <p:spPr>
          <a:xfrm>
            <a:off x="4419720" y="914400"/>
            <a:ext cx="4267080" cy="4724280"/>
          </a:xfrm>
          <a:prstGeom prst="rect">
            <a:avLst/>
          </a:prstGeom>
          <a:ln w="0">
            <a:noFill/>
          </a:ln>
        </p:spPr>
      </p:pic>
      <p:pic>
        <p:nvPicPr>
          <p:cNvPr id="193" name="Title 2" descr=""/>
          <p:cNvPicPr/>
          <p:nvPr/>
        </p:nvPicPr>
        <p:blipFill>
          <a:blip r:embed="rId2"/>
          <a:stretch/>
        </p:blipFill>
        <p:spPr>
          <a:xfrm>
            <a:off x="225360" y="1212840"/>
            <a:ext cx="450540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Non-metallic Minerals: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Dolomitic limestone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Feldspar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Silica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800" spc="-1" strike="noStrike">
                <a:solidFill>
                  <a:srgbClr val="000000"/>
                </a:solidFill>
                <a:latin typeface="Verdana"/>
                <a:ea typeface="Verdana"/>
              </a:rPr>
              <a:t>Clay</a:t>
            </a: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Title 2" descr=""/>
          <p:cNvPicPr/>
          <p:nvPr/>
        </p:nvPicPr>
        <p:blipFill>
          <a:blip r:embed="rId1"/>
          <a:stretch/>
        </p:blipFill>
        <p:spPr>
          <a:xfrm>
            <a:off x="360360" y="450720"/>
            <a:ext cx="8345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6" dur="2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8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0" dur="2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2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4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685800" y="457200"/>
            <a:ext cx="7315200" cy="83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Limestone – used to make lime, in concrete and cem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   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-found in Cebu, Negros, and Angat, Bulaca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Feldspar – used in making tiles and ceramic toiletwar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	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  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-found in Ilocos Norte and Pampang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Silica – used for making glas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         </a:t>
            </a:r>
            <a:r>
              <a:rPr b="0" lang="en-PH" sz="3000" spc="-1" strike="noStrike">
                <a:solidFill>
                  <a:srgbClr val="ffff00"/>
                </a:solidFill>
                <a:latin typeface="Arial Black"/>
              </a:rPr>
              <a:t>-found in Palawan, Sagay, Negros Occidenta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2" descr=""/>
          <p:cNvPicPr/>
          <p:nvPr/>
        </p:nvPicPr>
        <p:blipFill>
          <a:blip r:embed="rId1"/>
          <a:stretch/>
        </p:blipFill>
        <p:spPr>
          <a:xfrm>
            <a:off x="615960" y="365040"/>
            <a:ext cx="79246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Iron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Nickel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Copper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Gol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Silver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Chromium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Zinc an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000000"/>
                </a:solidFill>
                <a:latin typeface="Constantia"/>
              </a:rPr>
              <a:t>Lead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9" name="Title 2" descr=""/>
          <p:cNvPicPr/>
          <p:nvPr/>
        </p:nvPicPr>
        <p:blipFill>
          <a:blip r:embed="rId1"/>
          <a:stretch/>
        </p:blipFill>
        <p:spPr>
          <a:xfrm>
            <a:off x="530280" y="450720"/>
            <a:ext cx="831528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2" descr=""/>
          <p:cNvPicPr/>
          <p:nvPr/>
        </p:nvPicPr>
        <p:blipFill>
          <a:blip r:embed="rId1"/>
          <a:stretch/>
        </p:blipFill>
        <p:spPr>
          <a:xfrm>
            <a:off x="311040" y="835200"/>
            <a:ext cx="8461440" cy="48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Title 2" descr=""/>
          <p:cNvPicPr/>
          <p:nvPr/>
        </p:nvPicPr>
        <p:blipFill>
          <a:blip r:embed="rId2"/>
          <a:stretch/>
        </p:blipFill>
        <p:spPr>
          <a:xfrm>
            <a:off x="1133640" y="1365120"/>
            <a:ext cx="80168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2" descr=""/>
          <p:cNvPicPr/>
          <p:nvPr/>
        </p:nvPicPr>
        <p:blipFill>
          <a:blip r:embed="rId1"/>
          <a:stretch/>
        </p:blipFill>
        <p:spPr>
          <a:xfrm>
            <a:off x="-615960" y="530280"/>
            <a:ext cx="8321760" cy="130500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295280" y="2895480"/>
            <a:ext cx="7162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4000" spc="-1" strike="noStrike">
                <a:solidFill>
                  <a:srgbClr val="000000"/>
                </a:solidFill>
                <a:latin typeface="Calibri"/>
                <a:ea typeface="Calibri"/>
              </a:rPr>
              <a:t>-a substance if it is naturally-occurring, inorganic, crystalline solid with a definite composi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361 0.26712 C -0.04375 0.27753 -0.31076 0.28793 -0.39479 0.2241 C -0.47882 0.16027 -0.33229 -0.04787 -0.28107 -0.11609 C -0.22986 -0.18432 -0.16093 -0.18085 -0.08732 -0.1857 C -0.01336 -0.19056 0.10365 -0.17252 0.16198 -0.14477 C 0.22014 -0.11702 0.24202 -0.08441 0.26198 -0.01988 C 0.28195 0.04464 0.29011 0.19751 0.28212 0.2426 C 0.27414 0.2877 0.22535 0.24769 0.21441 0.2507 E">
                                      <p:cBhvr>
                                        <p:cTn id="21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0880" y="20570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Minerals are inorganic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They are formed in nature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They are solids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Atoms of a mineral have the same crystalline pattern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400" spc="-1" strike="noStrike">
                <a:solidFill>
                  <a:srgbClr val="000000"/>
                </a:solidFill>
                <a:latin typeface="Constantia"/>
              </a:rPr>
              <a:t>The chemical compositions is the same with only very minor change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Title 2" descr=""/>
          <p:cNvPicPr/>
          <p:nvPr/>
        </p:nvPicPr>
        <p:blipFill>
          <a:blip r:embed="rId1"/>
          <a:stretch/>
        </p:blipFill>
        <p:spPr>
          <a:xfrm>
            <a:off x="450720" y="665280"/>
            <a:ext cx="83217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itle 2" descr=""/>
          <p:cNvPicPr/>
          <p:nvPr/>
        </p:nvPicPr>
        <p:blipFill>
          <a:blip r:embed="rId1"/>
          <a:stretch/>
        </p:blipFill>
        <p:spPr>
          <a:xfrm>
            <a:off x="165240" y="1517760"/>
            <a:ext cx="8845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Title 2" descr=""/>
          <p:cNvPicPr/>
          <p:nvPr/>
        </p:nvPicPr>
        <p:blipFill>
          <a:blip r:embed="rId1"/>
          <a:stretch/>
        </p:blipFill>
        <p:spPr>
          <a:xfrm>
            <a:off x="560520" y="262080"/>
            <a:ext cx="5925960" cy="585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380880" y="990720"/>
          <a:ext cx="8382240" cy="542592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PH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Classific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PH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eral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PH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3a44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ic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thocla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lay Minera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quart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, Al, Si,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, Si, O, (OH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i,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</a:tr>
              <a:tr h="87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alc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olom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(CO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Mg, (CO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at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, 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</a:tr>
              <a:tr h="87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a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sum or anhydri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, (SO4), H2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0e9"/>
                    </a:solidFill>
                  </a:tcPr>
                </a:tc>
              </a:tr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id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ck sal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, C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0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Tit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505320" cy="35816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914400" y="2057400"/>
            <a:ext cx="38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600" spc="-1" strike="noStrike">
                <a:solidFill>
                  <a:srgbClr val="ffff00"/>
                </a:solidFill>
                <a:latin typeface="Arial"/>
              </a:rPr>
              <a:t>1. Luster-refers to the way light is reflected from a mineral surf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743040" indent="-743040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2" descr=""/>
          <p:cNvPicPr/>
          <p:nvPr/>
        </p:nvPicPr>
        <p:blipFill>
          <a:blip r:embed="rId1"/>
          <a:stretch/>
        </p:blipFill>
        <p:spPr>
          <a:xfrm>
            <a:off x="115920" y="1139760"/>
            <a:ext cx="4236840" cy="40482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9" descr="Mohs hardness"/>
          <p:cNvPicPr/>
          <p:nvPr/>
        </p:nvPicPr>
        <p:blipFill>
          <a:blip r:embed="rId2"/>
          <a:stretch/>
        </p:blipFill>
        <p:spPr>
          <a:xfrm>
            <a:off x="4572000" y="914400"/>
            <a:ext cx="3987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itle 2" descr=""/>
          <p:cNvPicPr/>
          <p:nvPr/>
        </p:nvPicPr>
        <p:blipFill>
          <a:blip r:embed="rId1"/>
          <a:stretch/>
        </p:blipFill>
        <p:spPr>
          <a:xfrm>
            <a:off x="347760" y="987480"/>
            <a:ext cx="3700440" cy="3041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5" descr="True colors"/>
          <p:cNvPicPr/>
          <p:nvPr/>
        </p:nvPicPr>
        <p:blipFill>
          <a:blip r:embed="rId2"/>
          <a:stretch/>
        </p:blipFill>
        <p:spPr>
          <a:xfrm>
            <a:off x="4343400" y="838080"/>
            <a:ext cx="41911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Title 2" descr=""/>
          <p:cNvPicPr/>
          <p:nvPr/>
        </p:nvPicPr>
        <p:blipFill>
          <a:blip r:embed="rId1"/>
          <a:stretch/>
        </p:blipFill>
        <p:spPr>
          <a:xfrm>
            <a:off x="158760" y="603360"/>
            <a:ext cx="4376880" cy="2511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1" descr="Watch the pieces"/>
          <p:cNvPicPr/>
          <p:nvPr/>
        </p:nvPicPr>
        <p:blipFill>
          <a:blip r:embed="rId2"/>
          <a:stretch/>
        </p:blipFill>
        <p:spPr>
          <a:xfrm>
            <a:off x="4495680" y="838080"/>
            <a:ext cx="4038840" cy="48006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380880" y="3581280"/>
            <a:ext cx="33530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PH" sz="3000" spc="-1" strike="noStrike">
                <a:solidFill>
                  <a:srgbClr val="c00000"/>
                </a:solidFill>
                <a:latin typeface="Arial Black"/>
              </a:rPr>
              <a:t>5. Fracture – minerals that do not exhibit cleavage when broken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7:08:40Z</dcterms:created>
  <dc:creator>malik</dc:creator>
  <dc:description/>
  <dc:language>en-US</dc:language>
  <cp:lastModifiedBy>malik</cp:lastModifiedBy>
  <dcterms:modified xsi:type="dcterms:W3CDTF">2012-03-05T20:00:36Z</dcterms:modified>
  <cp:revision>25</cp:revision>
  <dc:subject/>
  <dc:title>MINERALS</dc:title>
</cp:coreProperties>
</file>